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3E4-9577-4B17-9D77-8000D67F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72A-1819-417F-BF14-BDBC3956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A9F76-8DE3-49A2-BDA5-61F8A30F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D35E4-9FB1-46ED-8106-2AEC8789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B3472-B423-4452-989D-9950A86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3E300-3FD9-4D12-AC42-15C851E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A4045-43CC-4FD0-BDED-CCFE674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2E71F-6190-4AED-8A2C-9502655B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52D86-EFC0-4768-8485-F58BAC96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43C4F-3CAE-459C-8011-0EBA9717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624D2-CA54-41D8-8F0C-81F5D7BF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E8958A-F362-4FDF-88AE-FE19F85D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348-A45C-4CD5-98AB-DAC0DDE3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EBAA4-E6FB-4860-BA57-E14451C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3153F6-471F-418E-9E9E-B645DF2C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7F157F-13A1-44F4-BB33-7F103F5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98E3E0-BF50-47A6-A3F2-6D7A20D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236345-A973-48C3-9FE5-9E3F5441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7E092D-14A1-4C44-A566-EC9FCCA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AF5EA3-D3A5-46FE-9525-5542683F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CDE7C7-91F9-4271-BB24-8ED74D2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542AA7-DB5D-4819-BEF9-41190D3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6FBA27-2687-4E86-8A13-4BD77FD5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9B0-A3CC-41EB-BFF5-6126217C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076FFC-E4A3-4B7E-A19C-B8A99E0B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54AAF-1D29-4DE3-A3D9-72AD2FB4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20DD9-59EB-406C-A7B7-2A0EC2C3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EF95E-8D6C-4F88-8A8B-EAA9090B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D1A2E-8006-4636-884C-9B2313C3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BC176-0BAA-438A-82CC-76C644B0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03AF2-154C-4AAF-8B20-3AB5F2C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0D7E8-46EA-4173-9C90-A7DCA81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A6ACB-55C6-429C-9697-CC8ADD7E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17C33-7AE4-460B-8131-5F80D04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9F72-51F0-45EC-B6A8-CD002DCC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84539-96C3-4375-97C7-DFCDBC9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BAACF-F872-4F6C-96A0-2174ECF9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AF60D-197E-40E5-B6D9-190AEAE7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79987-754B-49C4-BC45-8A96E262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A85C4-71E5-4F38-9EB1-AE9657BF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D5238-9B66-4536-BB52-65807B9D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05D47-5763-47AD-9762-72DFCACC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FF011-1AD1-4C31-AED8-36C1F433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30D2E-AA43-4711-A92A-52A9FD2E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29426-687A-4CEF-A576-A6185816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EA5C-5F0E-412C-8CCA-08E565F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25FA-63F8-4D3E-BCFA-9F10E08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907C6-322E-4A8D-BF31-E2144BA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7767-7DAB-43FA-8D87-A9F11696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1B3BF-3208-4E56-A677-8A08C9A3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B3E15-176B-4100-B2FF-30146523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63C7-1302-4C0D-BF40-C2EBF48C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F5D3-3BED-46BB-895C-D2525BD2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99F3-33E1-43FF-8679-B3A98B0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D5C3-B428-4A47-B5C6-306C6C96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30A9-4AA7-4492-B5C2-C83182A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055-8D20-4228-801E-A2AA614C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22F6-7414-4DA7-86C9-2EA7011C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54B1-1C39-43CC-B861-B11579D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9FD1-D3CA-4D7B-A7D2-D7B60C0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2A8A-74B6-426B-95A5-5478F588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EDA7-6F84-43CF-9BB0-FDA624BB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B984-F253-4FF4-9B61-841CD9F3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5FFC-19C5-434D-9379-8D59AF22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D847-71D0-4104-9225-1C01494D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6786-9035-4AA1-8B7A-F48D5CD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1007-062F-4C0C-877F-F4B68EA8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36F-8179-47C4-9593-54DE5D15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FBE0-7AA1-4257-8007-3D11D811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225A-6313-487E-95B1-D038DBED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4496-591B-4F41-BD25-3511565F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ED74-9AA4-45FD-8809-DF983E20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2B12-D6D3-4E3D-81DF-355059A5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CE7A-89CA-411E-9DA7-7BC19045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2A73-7F05-41BF-B8D7-DEA84271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8C63-66B9-4982-B803-7C188C00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21B0-BEE5-429F-9A20-26A06AC8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15A4-5862-47C9-8E40-A0D79CCD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BB4-E405-44F0-B1CB-9AE452FA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FA43-9602-4581-BFDF-D47D2402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9F63-F224-4D1F-8309-FDB26371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7052-20A6-4780-A62F-CDE4E799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63DD-CB38-4CD7-A15F-0835BF0C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5414-39B6-4595-B9E4-9F47A0D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06B28-C2DC-437B-926E-BF193D8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6FAA-B175-41BE-AD2B-F1EBF403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E5D0-21EF-4DED-A7B8-88AEB480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8D7E-06A7-4CDF-9527-13ED70AE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2CE2-562C-4354-8C87-CBF86323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383-BDD4-4B0B-8261-18E32989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7F70D-6422-4B31-9315-52F89666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0843-ADE8-455D-8B06-0FB8E10A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BE86-8DD1-4944-9923-750B41A3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DF16-9184-4EA1-967D-48F4E090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E8079-4F46-4E8C-ADAF-9A93D605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CA10-C871-4B6D-8130-B53D5F4C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D5E2-F812-4310-82E8-F4EA7CB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D8F4-35EE-46E8-A194-5CFE0C1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2A37-780A-4513-9017-591C809B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B8C6F-C28C-48D3-92D3-48CC869E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BB9-E35B-4EC1-B0B0-0D4EED6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D034-E36E-4098-BBAE-61E1BCAF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1B9A-7AD9-4D82-B5DF-D97B3DAB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A5B19-DD05-4D92-9798-94C5127B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18090-6BA3-4614-8FB7-3EFBC59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4ADA8-6DD8-4D43-BB25-EEB727E3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B80F-7678-42BD-AFF2-207B71DF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26F53-58A5-484F-AB3E-62A97B42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6AE2-5D26-4F74-AD1C-32DDBA06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7B57B-4A0E-486B-887E-6892AE81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16433-A5AC-4A0F-B382-20E6B3C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4C8-8A15-4ED3-BDEE-099249E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F4CCA-D668-4E5F-9517-F917D797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04A4-827A-4735-884D-025EB02A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391F-E8D6-454D-B63B-EB730065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80CCE-C05D-46C6-A574-33CEE500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A4BE9-21D1-41B6-B068-C53DDD9F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76590-A1C8-4E2F-87CA-FA7A3F28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AA23-BA74-4603-80EB-FA03465F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FED6-A5E2-4227-BA5C-849E8AC6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6363E-285B-473B-B616-0A6AFBD5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717E-1A6F-4CE3-98A9-FDF68132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ADD-61B2-48C1-8F2A-9ADD9C1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4CA6E-CCFB-49A1-BCDB-1A788CA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2061E-4933-494A-9C35-938327E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3551-59DD-4FF3-88C2-D9E90B72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05F0E-5342-462A-9D9F-E9235502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6921-2161-4166-B77E-D5AC8C2B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5C4CE-5E99-4FB0-9718-D35FFCB4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16908-AD3D-4F83-BB0F-6DFD12F5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5FD34-8766-4240-BFDC-AF0CB191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5015-8C4D-4982-940E-7B878A3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DF2A-406E-40E8-AB75-7D614ADD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9D0-08B7-4938-8687-1C3984C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446A4-14E5-416C-A840-71AD005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898C9-5211-49A1-BBB6-3DAD50B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2B85C-91B5-4020-BCE9-8FE1A8B1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72B07-4276-42E6-B0DB-C68BA47E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D6574-30EB-4D1C-8179-B04D30E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786C-1E44-432B-A6DA-E7D14EC2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B47FF-43F9-4DF8-BA63-567723F2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C0E95-0097-4B26-89F6-58C6AB8D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D78A4-8187-4690-A2C4-057B7849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CA84B-1E7C-4B48-86C3-DAB20CA9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FD1-6AB1-4921-B4A9-F07CA723B7A1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EE7F-2A0D-422A-A6B1-6464FD127814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30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B6F3-76DE-4E0B-8653-132243B3336B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9D30-B5CA-4692-93E2-8A4792CE628E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2D99-C374-491C-8E6C-82307F18E420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ED0-5FBF-4266-9ED9-937B494C8013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E4CD-A617-4D03-819B-4E24D0449221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0062-8107-426A-9CEE-C01C3F5AE7EE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AEE2-CFEF-4865-BC64-75B35441111A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DD5B-EC0B-4838-A1D6-E95AF0B598FF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A71-8DD1-48B0-817D-894900090E61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7C22-BCF4-4CB4-B30A-D1F2DE4881DF}" type="slidenum">
              <a:rPr b="0" lang="en-US" sz="1200" spc="-1" strike="noStrike">
                <a:solidFill>
                  <a:srgbClr val="ffff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s://www.youtube.com/watch?v=2rzxAyY7D7k" TargetMode="External"/><Relationship Id="rId3" Type="http://schemas.openxmlformats.org/officeDocument/2006/relationships/hyperlink" Target="http://oracleofbacon.org/" TargetMode="External"/><Relationship Id="rId4" Type="http://schemas.openxmlformats.org/officeDocument/2006/relationships/hyperlink" Target="http://www.barabasilab.com/pubs/CCNR-ALB_Publications/200305-01_SciAmer-ScaleFree/200305-01_SciAmer-ScaleFree.pdf" TargetMode="External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772400" cy="146844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eachers Teaching With Technolog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17 Annual Meeting – Chicago, I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Ray Barton, Olympus High, SLC, U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558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ix Degrees of Kevin Bac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5" name="Six Degrees Part 4_WMV V9.wmv" descr=""/>
          <p:cNvPicPr/>
          <p:nvPr/>
        </p:nvPicPr>
        <p:blipFill>
          <a:blip r:embed="rId2"/>
          <a:stretch/>
        </p:blipFill>
        <p:spPr>
          <a:xfrm>
            <a:off x="1600200" y="231624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le 1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65120" y="129492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ll World, Scale Fre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atts, Strogatz, Barabasi, Bonabeau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ery small average shortest path leng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 clustering coefficient  (cliques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ower distribution of nod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56240" y="129492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rdos-Reny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ll average shortest path length – log(n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ll clustering coeffici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ormal distribution of nod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pping the Interne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1" name="Six Degrees Part 3_WMV V9.wmv" descr=""/>
          <p:cNvPicPr/>
          <p:nvPr/>
        </p:nvPicPr>
        <p:blipFill>
          <a:blip r:embed="rId2"/>
          <a:stretch/>
        </p:blipFill>
        <p:spPr>
          <a:xfrm>
            <a:off x="1828800" y="21002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14256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ub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80-20 r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ale Fre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(cx)=k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(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4429800" y="1002960"/>
            <a:ext cx="2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13" descr=""/>
          <p:cNvPicPr/>
          <p:nvPr/>
        </p:nvPicPr>
        <p:blipFill>
          <a:blip r:embed="rId2"/>
          <a:stretch/>
        </p:blipFill>
        <p:spPr>
          <a:xfrm>
            <a:off x="358128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11574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914400" y="2209320"/>
            <a:ext cx="777240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92406e"/>
              </a:buClr>
              <a:buSzPct val="8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e fourth as frequ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92406e"/>
              </a:buClr>
              <a:buSzPct val="8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lf as frequ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92406e"/>
              </a:buClr>
              <a:buSzPct val="8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wice as frequent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92406e"/>
              </a:buClr>
              <a:buSzPct val="8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 times as frequ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random network model assumes all nodes exist at the beginning of the network formation.  This is not the ca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scale free networks, older nodes have greater opportunity to acquire lin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ferential attachment –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the rich get rich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914400" y="207288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istant to attacks on randomly selected nodes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80% random node failure but network still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ulnerable to coordinated attacks on hub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5-15% hub failure can crash the network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ale-Free networks have a threshold of zer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Connected: The Power of Six Degrees  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4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s://www.youtube.com/watch?v=2rzxAyY7D7k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The Oracle of Kevin Bacon 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oracleofbacon.org/</a:t>
            </a:r>
            <a:r>
              <a:rPr b="0" i="1" lang="en-US" sz="14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Scale-Free Networks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by Albert-Laszlo Barabasi and Eric Bonabeau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barabasilab.com/pubs/CCNR-ALB_Publications/200305-01_SciAmer-ScaleFree/200305-01_SciAmer-ScaleFree.pdf</a:t>
            </a: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atts, D.J. (1999). 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Small Worlds: The Dynamics of Networks Between Order and Randomness.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inceton University Press.  ISBN 0-691-00541-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atts, D.J. (2004</a:t>
            </a: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). </a:t>
            </a:r>
            <a:r>
              <a:rPr b="1" i="1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Six Degrees: the science of a connected age</a:t>
            </a:r>
            <a:r>
              <a:rPr b="1" i="1" lang="en-US" sz="1800" spc="-1" strike="noStrike">
                <a:solidFill>
                  <a:srgbClr val="ffffff"/>
                </a:solidFill>
                <a:latin typeface="Corbe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.W. Norton &amp; Company.</a:t>
            </a:r>
            <a:r>
              <a:rPr b="1" i="1" lang="en-US" sz="1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SBN 0-393-32542-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http://olympusmath.wikispaces.com/Six+Degrees+of+Separat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Six Degrees Part 1_WMV V9.wmv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308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914400" y="1571760"/>
          <a:ext cx="7772400" cy="40798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o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ocie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riendshi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ollyw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v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ternet (virtu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Web P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in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ternet (Physic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ou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munication L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p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ellular Metabo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lecu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ochemical Rea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pidem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o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f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ealth Disor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sea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ervous Syst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eur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ynap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conomic Syst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usiness Ent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6400" rIns="86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itle 1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iseases seem to share most of their genes with other diseas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ype 2 diabetes and prostate cancer both appear to be influenced by variation in the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JAZF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e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356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le 1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229600" cy="914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"/>
          <p:cNvPicPr/>
          <p:nvPr/>
        </p:nvPicPr>
        <p:blipFill>
          <a:blip r:embed="rId2"/>
          <a:stretch/>
        </p:blipFill>
        <p:spPr>
          <a:xfrm>
            <a:off x="723960" y="1770120"/>
            <a:ext cx="3521160" cy="452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p of the shortest route from a test website to about 100,000 othe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ike colors indicate similar web addres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528" name="Six Degrees Part 2_WMV V9.wmv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228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itle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11574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914400" y="2209320"/>
            <a:ext cx="777240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you had 100 friends and each friend had 100 friends and so on... what could be the maximum degree of separation between you and anyone in the world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assumptions did you make in your calculat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many friends would each person need under these assumptions in order to have a maximum of six degrees of separation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5:56:21Z</dcterms:created>
  <dc:creator>Ray</dc:creator>
  <dc:description/>
  <dc:language>en-US</dc:language>
  <cp:lastModifiedBy>Ray</cp:lastModifiedBy>
  <dcterms:modified xsi:type="dcterms:W3CDTF">2017-03-10T03:43:04Z</dcterms:modified>
  <cp:revision>81</cp:revision>
  <dc:subject/>
  <dc:title>Six Degrees of Separation</dc:title>
</cp:coreProperties>
</file>